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6AF49-5DF7-4897-8B98-1F1AE0688A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090F8-D79A-440A-98B6-C253CEBED71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E03-6998-472D-9967-BFE61B68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D288-6D08-4019-AA83-AC509724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EE1-0EE3-4926-96B9-6FCD5C02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BF1-D53D-4404-B6F7-FB3B22DC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467-3128-4103-BE2D-A95D7C29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9394-A4A8-43D1-83CD-CE032E39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B37-D0C0-4787-BAD9-CB73711E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73C6-7DE9-4257-99F9-5769A5A4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322C-63A3-48A7-B502-6D7FFE2F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751A-5490-4B12-9605-4EC8743C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97E-8D67-4202-AAD4-C7639A62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1E4B-96F3-4234-ABD4-1F73AA7D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1055B-9468-4379-9FF1-042D96151C8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63600" y="2328840"/>
            <a:ext cx="5072400" cy="30718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162160" y="905040"/>
            <a:ext cx="5594400" cy="1180800"/>
            <a:chOff x="2162160" y="905040"/>
            <a:chExt cx="5594400" cy="1180800"/>
          </a:xfrm>
        </p:grpSpPr>
        <p:sp>
          <p:nvSpPr>
            <p:cNvPr id="65" name="Text Box 2"/>
            <p:cNvSpPr/>
            <p:nvPr/>
          </p:nvSpPr>
          <p:spPr>
            <a:xfrm>
              <a:off x="3420720" y="1011240"/>
              <a:ext cx="4335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小英雄于连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162160" y="905040"/>
              <a:ext cx="1180800" cy="1180800"/>
              <a:chOff x="2162160" y="905040"/>
              <a:chExt cx="118080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1621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218320" y="984960"/>
                <a:ext cx="1064520" cy="9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58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4</a:t>
                </a:r>
                <a:endParaRPr b="0" lang="en-US" sz="5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内容占位符 2"/>
          <p:cNvSpPr/>
          <p:nvPr/>
        </p:nvSpPr>
        <p:spPr>
          <a:xfrm>
            <a:off x="790560" y="1701720"/>
            <a:ext cx="7645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是按什么顺序来写的？这样写有什么好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1198440" y="241920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课文是按照事情发展的顺序来写的。这样写符合事情发展的规律，使事情的交代条理清晰，有始有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26"/>
          <p:cNvSpPr/>
          <p:nvPr/>
        </p:nvSpPr>
        <p:spPr>
          <a:xfrm>
            <a:off x="583200" y="202284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英雄于连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1487520" y="2077920"/>
            <a:ext cx="122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年龄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左大括号 6"/>
          <p:cNvSpPr/>
          <p:nvPr/>
        </p:nvSpPr>
        <p:spPr>
          <a:xfrm>
            <a:off x="1285920" y="2133720"/>
            <a:ext cx="312840" cy="3360600"/>
          </a:xfrm>
          <a:custGeom>
            <a:avLst/>
            <a:gdLst>
              <a:gd name="textAreaLeft" fmla="*/ 199800 w 312840"/>
              <a:gd name="textAreaRight" fmla="*/ 313200 w 312840"/>
              <a:gd name="textAreaTop" fmla="*/ 7920 h 3360600"/>
              <a:gd name="textAreaBottom" fmla="*/ 3352680 h 33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"/>
                  <a:pt x="10800" y="167"/>
                </a:cubicBezTo>
                <a:lnTo>
                  <a:pt x="10800" y="10633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4"/>
                  <a:pt x="10800" y="10967"/>
                </a:cubicBezTo>
                <a:lnTo>
                  <a:pt x="10800" y="21433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左大括号 24"/>
          <p:cNvSpPr/>
          <p:nvPr/>
        </p:nvSpPr>
        <p:spPr>
          <a:xfrm flipH="1">
            <a:off x="4865040" y="2225520"/>
            <a:ext cx="199800" cy="3222720"/>
          </a:xfrm>
          <a:custGeom>
            <a:avLst/>
            <a:gdLst>
              <a:gd name="textAreaLeft" fmla="*/ 127800 w 199800"/>
              <a:gd name="textAreaRight" fmla="*/ 200160 w 199800"/>
              <a:gd name="textAreaTop" fmla="*/ 5040 h 3222720"/>
              <a:gd name="textAreaBottom" fmla="*/ 3217680 h 322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7"/>
          <p:cNvSpPr/>
          <p:nvPr/>
        </p:nvSpPr>
        <p:spPr>
          <a:xfrm>
            <a:off x="2416320" y="2090880"/>
            <a:ext cx="376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警惕性很高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8"/>
          <p:cNvSpPr/>
          <p:nvPr/>
        </p:nvSpPr>
        <p:spPr>
          <a:xfrm>
            <a:off x="2346480" y="5060880"/>
            <a:ext cx="412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保城市救人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9"/>
          <p:cNvSpPr/>
          <p:nvPr/>
        </p:nvSpPr>
        <p:spPr>
          <a:xfrm>
            <a:off x="1667160" y="50608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功劳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10"/>
          <p:cNvSpPr/>
          <p:nvPr/>
        </p:nvSpPr>
        <p:spPr>
          <a:xfrm>
            <a:off x="1580400" y="371628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聪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26"/>
          <p:cNvSpPr/>
          <p:nvPr/>
        </p:nvSpPr>
        <p:spPr>
          <a:xfrm>
            <a:off x="5393520" y="31878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怀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崇敬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8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9" name="圆角矩形 1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矩形 18"/>
          <p:cNvSpPr/>
          <p:nvPr/>
        </p:nvSpPr>
        <p:spPr>
          <a:xfrm>
            <a:off x="2044800" y="3716280"/>
            <a:ext cx="376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尿灭导火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内容占位符 2"/>
          <p:cNvSpPr/>
          <p:nvPr/>
        </p:nvSpPr>
        <p:spPr>
          <a:xfrm>
            <a:off x="934920" y="208440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主要讲了在五百多年前的布鲁塞尔市，于连用尿浇灭了导火线，拯救了整座城市和老百姓的故事，赞扬了于连机智、勇敢的精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5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9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0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内容占位符 2"/>
          <p:cNvSpPr/>
          <p:nvPr/>
        </p:nvSpPr>
        <p:spPr>
          <a:xfrm>
            <a:off x="996840" y="159228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王二小的故事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河北省涞（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ái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源县，位于河北省西部，与山西交界，抗日战争时期晋察冀根据地之一。抗日英雄王二小就生长在这里。 王二小带日军走进的山谷，当地叫西北沟，两山一沟，地势十分险要。在山谷的尽头，只有一个方向可以转弯。转过弯，眼前是一个小盆地，两侧立崖高达数十米，直上直下如同刀劈，盆地尽头亦为立壁，一道瀑布飞流而下，形成溪水流出。在军事上这里却是一个死地，只有进口，没有出口，王二小正是舍生忘死，把鬼子带到这个绝地。鬼子发现上当后，先是残忍地剁去二小右手的五个手指，又用刺刀刺向二小的胸膛，把他摔到大石头上。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内容占位符 2"/>
          <p:cNvSpPr/>
          <p:nvPr/>
        </p:nvSpPr>
        <p:spPr>
          <a:xfrm>
            <a:off x="996840" y="1366920"/>
            <a:ext cx="73962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路军一举全歼（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ān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此股日寇，战斗结束后，几个战士冲向二小，当时他还活着，和另外两名受伤的八路军战士一起被送到刘家庄，可惜伤重无治，为国牺牲，三位战士永远长眠在刘家庄的深山老峪（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ù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里。当时是涞源县青救会干部张士奎（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kuí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写了王二小在反“扫荡”斗争中，把敌人引进埋伏圈而自己壮烈牺牲的材料，报告给边区青救会的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晋察冀日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在第一版发表了这条消息。词作家方冰、曲作家劫夫，根据这篇报道，在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194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年创作了歌曲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歌唱二小放牛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。这首歌很快在边区，直至全国传唱开来，这一唱就是几十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1" descr=""/>
          <p:cNvPicPr/>
          <p:nvPr/>
        </p:nvPicPr>
        <p:blipFill>
          <a:blip r:embed="rId1"/>
          <a:stretch/>
        </p:blipFill>
        <p:spPr>
          <a:xfrm>
            <a:off x="1042920" y="2125800"/>
            <a:ext cx="7234200" cy="3760560"/>
          </a:xfrm>
          <a:prstGeom prst="rect">
            <a:avLst/>
          </a:prstGeom>
          <a:ln w="0">
            <a:noFill/>
          </a:ln>
        </p:spPr>
      </p:pic>
      <p:sp>
        <p:nvSpPr>
          <p:cNvPr id="136" name="矩形 1"/>
          <p:cNvSpPr/>
          <p:nvPr/>
        </p:nvSpPr>
        <p:spPr>
          <a:xfrm>
            <a:off x="1042920" y="2906640"/>
            <a:ext cx="7234200" cy="6426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生当作人杰，死亦为鬼雄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夏日绝句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李清照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僵卧孤村不自哀，尚思为国戍轮台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十一月四日风雨大作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陆游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8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9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"/>
          <p:cNvSpPr/>
          <p:nvPr/>
        </p:nvSpPr>
        <p:spPr>
          <a:xfrm>
            <a:off x="1740600" y="16686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孙叔敖勇斩双头蛇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1265400" y="2119320"/>
            <a:ext cx="73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孙叔敖少年时家境贫寒，母子相依为命。孙叔敖有一次上山砍柴遇见一条大蛇，长着两个脑袋。他思忖：曾听乡里人传说人见到双头蛇就会死，逃跑回家也是死，反不如拼死一搏，为乡里人除此祸害。经过一场人与双头蛇的搏斗，他终于将双头蛇打死在山坡上。后来，孙叔敖长大成人，做了楚国的令尹。他还没正式上任，老百姓就已经很信赖他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组合 6"/>
          <p:cNvGrpSpPr/>
          <p:nvPr/>
        </p:nvGrpSpPr>
        <p:grpSpPr>
          <a:xfrm>
            <a:off x="558720" y="925560"/>
            <a:ext cx="3849840" cy="666720"/>
            <a:chOff x="558720" y="925560"/>
            <a:chExt cx="3849840" cy="666720"/>
          </a:xfrm>
        </p:grpSpPr>
        <p:sp>
          <p:nvSpPr>
            <p:cNvPr id="144" name="圆角矩形 7"/>
            <p:cNvSpPr/>
            <p:nvPr/>
          </p:nvSpPr>
          <p:spPr>
            <a:xfrm>
              <a:off x="1374480" y="106344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文本框 16"/>
            <p:cNvSpPr/>
            <p:nvPr/>
          </p:nvSpPr>
          <p:spPr>
            <a:xfrm>
              <a:off x="1634040" y="108252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92556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48" name="矩形 11"/>
          <p:cNvSpPr/>
          <p:nvPr/>
        </p:nvSpPr>
        <p:spPr>
          <a:xfrm>
            <a:off x="1017720" y="226836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运用动作描写、心理描写、烘托和铺垫的写作手法和排比的修辞手法，讲了在五百多年前的布鲁塞尔市，于连用尿浇灭了导火线，拯救了整座城市和老百姓的故事，赞扬了于连机智、勇敢的精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1203480" y="2852640"/>
            <a:ext cx="72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我们要在感悟课文内容的基础上，入情入境地读，语调要有所变化，如人们欢庆的场面，要洋溢着喜悦；在危急的时刻，要读出紧张的气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  <p:sp>
        <p:nvSpPr>
          <p:cNvPr id="151" name="矩形 1"/>
          <p:cNvSpPr/>
          <p:nvPr/>
        </p:nvSpPr>
        <p:spPr>
          <a:xfrm>
            <a:off x="1532160" y="2041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7"/>
          <p:cNvSpPr/>
          <p:nvPr/>
        </p:nvSpPr>
        <p:spPr>
          <a:xfrm>
            <a:off x="700200" y="1089000"/>
            <a:ext cx="772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．美丽的布鲁塞尔迎来了四面八方的游客，请你做个小导游，给他们介绍一下于连铜像的来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1"/>
          <p:cNvSpPr/>
          <p:nvPr/>
        </p:nvSpPr>
        <p:spPr>
          <a:xfrm>
            <a:off x="892080" y="2165400"/>
            <a:ext cx="772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小于连是布鲁塞尔的小英雄。五百多年前布鲁塞尔打败了侵略者，正当人们欢庆胜利的时候，小于连发现一条干涸的深沟里有一根导火线烧着了，这是敌人想炸毁城市。这可怎么办呢？小于连想到事情很危急，他急中生智用尿把导火线浇灭了，保住了这座城市和全城的人。为此，人们为了表彰这位小英雄，就塑造了这座铜像。他成了这座城市的象征和守护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11080" y="238140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解课文内容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感悟于连机智、勇敢的精神，学习他那种勇敢机智、热爱祖国、热爱人民的美好品质。乐于把这个故事讲给别人听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7"/>
          <p:cNvSpPr/>
          <p:nvPr/>
        </p:nvSpPr>
        <p:spPr>
          <a:xfrm>
            <a:off x="811080" y="1359000"/>
            <a:ext cx="8229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．读读认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ú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ě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uā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ìn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í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ū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ǎ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fàn    jī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ì     huǒ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ào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读  者        欢  庆        敌  军      晚   饭     机  智      火  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ě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èn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ì    shī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ài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ā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iè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ǎ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ào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ɡōu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ōn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智  者       胜  利       失  败       消  灭       打  造      沟  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ɡǔ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è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ào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í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uò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ón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ànɡ    y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ɡē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àn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一 股 味 道        一  座  铜  像           一  根  木  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7167"/>
          <p:cNvSpPr/>
          <p:nvPr/>
        </p:nvSpPr>
        <p:spPr>
          <a:xfrm>
            <a:off x="1658880" y="1992240"/>
            <a:ext cx="7548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把拼音和相应的字连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ào       shènɡ      dí         ɡōu        fàn         bà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敌　 　沟　 　药　 　饭　 　胜　 　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者　 　棒　 　智　 　尿　　 造　 　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ào       bànɡ    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ě        niào       tónɡ       zh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57" name="椭圆 1"/>
          <p:cNvSpPr/>
          <p:nvPr/>
        </p:nvSpPr>
        <p:spPr>
          <a:xfrm>
            <a:off x="1658880" y="2763720"/>
            <a:ext cx="819360" cy="3621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椭圆 19"/>
          <p:cNvSpPr/>
          <p:nvPr/>
        </p:nvSpPr>
        <p:spPr>
          <a:xfrm>
            <a:off x="2757600" y="2763720"/>
            <a:ext cx="963360" cy="3621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椭圆 20"/>
          <p:cNvSpPr/>
          <p:nvPr/>
        </p:nvSpPr>
        <p:spPr>
          <a:xfrm>
            <a:off x="3821040" y="2763720"/>
            <a:ext cx="819360" cy="3621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椭圆 21"/>
          <p:cNvSpPr/>
          <p:nvPr/>
        </p:nvSpPr>
        <p:spPr>
          <a:xfrm>
            <a:off x="4776840" y="2763720"/>
            <a:ext cx="817560" cy="3621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椭圆 22"/>
          <p:cNvSpPr/>
          <p:nvPr/>
        </p:nvSpPr>
        <p:spPr>
          <a:xfrm>
            <a:off x="5859360" y="2778120"/>
            <a:ext cx="817560" cy="3618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椭圆 23"/>
          <p:cNvSpPr/>
          <p:nvPr/>
        </p:nvSpPr>
        <p:spPr>
          <a:xfrm>
            <a:off x="6967440" y="2739960"/>
            <a:ext cx="819360" cy="3603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椭圆 24"/>
          <p:cNvSpPr/>
          <p:nvPr/>
        </p:nvSpPr>
        <p:spPr>
          <a:xfrm>
            <a:off x="1547640" y="5511960"/>
            <a:ext cx="817560" cy="3603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椭圆 25"/>
          <p:cNvSpPr/>
          <p:nvPr/>
        </p:nvSpPr>
        <p:spPr>
          <a:xfrm>
            <a:off x="2646360" y="5511960"/>
            <a:ext cx="963720" cy="3603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椭圆 26"/>
          <p:cNvSpPr/>
          <p:nvPr/>
        </p:nvSpPr>
        <p:spPr>
          <a:xfrm>
            <a:off x="3710160" y="5511960"/>
            <a:ext cx="817560" cy="3603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椭圆 27"/>
          <p:cNvSpPr/>
          <p:nvPr/>
        </p:nvSpPr>
        <p:spPr>
          <a:xfrm>
            <a:off x="4856040" y="5511960"/>
            <a:ext cx="819360" cy="3603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椭圆 28"/>
          <p:cNvSpPr/>
          <p:nvPr/>
        </p:nvSpPr>
        <p:spPr>
          <a:xfrm>
            <a:off x="5950080" y="5526000"/>
            <a:ext cx="817560" cy="3603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椭圆 29"/>
          <p:cNvSpPr/>
          <p:nvPr/>
        </p:nvSpPr>
        <p:spPr>
          <a:xfrm>
            <a:off x="7005600" y="5486400"/>
            <a:ext cx="819360" cy="3618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接连接符 3"/>
          <p:cNvSpPr/>
          <p:nvPr/>
        </p:nvSpPr>
        <p:spPr>
          <a:xfrm>
            <a:off x="2068560" y="3139920"/>
            <a:ext cx="2049480" cy="73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接连接符 30"/>
          <p:cNvSpPr/>
          <p:nvPr/>
        </p:nvSpPr>
        <p:spPr>
          <a:xfrm>
            <a:off x="3187800" y="3125880"/>
            <a:ext cx="3079800" cy="830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接连接符 31"/>
          <p:cNvSpPr/>
          <p:nvPr/>
        </p:nvSpPr>
        <p:spPr>
          <a:xfrm flipH="1">
            <a:off x="2068560" y="3139920"/>
            <a:ext cx="2162160" cy="73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接连接符 33"/>
          <p:cNvSpPr/>
          <p:nvPr/>
        </p:nvSpPr>
        <p:spPr>
          <a:xfrm flipH="1">
            <a:off x="3126960" y="3139920"/>
            <a:ext cx="2057400" cy="765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接连接符 35"/>
          <p:cNvSpPr/>
          <p:nvPr/>
        </p:nvSpPr>
        <p:spPr>
          <a:xfrm flipH="1">
            <a:off x="5184720" y="3174840"/>
            <a:ext cx="1082880" cy="695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直接连接符 38"/>
          <p:cNvSpPr/>
          <p:nvPr/>
        </p:nvSpPr>
        <p:spPr>
          <a:xfrm flipH="1">
            <a:off x="7376760" y="3125880"/>
            <a:ext cx="88920" cy="695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直接连接符 41"/>
          <p:cNvSpPr/>
          <p:nvPr/>
        </p:nvSpPr>
        <p:spPr>
          <a:xfrm>
            <a:off x="2014560" y="4756320"/>
            <a:ext cx="2049480" cy="730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接连接符 42"/>
          <p:cNvSpPr/>
          <p:nvPr/>
        </p:nvSpPr>
        <p:spPr>
          <a:xfrm>
            <a:off x="3094200" y="4756320"/>
            <a:ext cx="0" cy="730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接连接符 44"/>
          <p:cNvSpPr/>
          <p:nvPr/>
        </p:nvSpPr>
        <p:spPr>
          <a:xfrm>
            <a:off x="4191120" y="4756320"/>
            <a:ext cx="3186000" cy="730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直接连接符 46"/>
          <p:cNvSpPr/>
          <p:nvPr/>
        </p:nvSpPr>
        <p:spPr>
          <a:xfrm>
            <a:off x="5265720" y="4745160"/>
            <a:ext cx="0" cy="730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接连接符 48"/>
          <p:cNvSpPr/>
          <p:nvPr/>
        </p:nvSpPr>
        <p:spPr>
          <a:xfrm flipH="1">
            <a:off x="2014560" y="4724280"/>
            <a:ext cx="4338720" cy="73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直接连接符 50"/>
          <p:cNvSpPr/>
          <p:nvPr/>
        </p:nvSpPr>
        <p:spPr>
          <a:xfrm flipH="1">
            <a:off x="6353280" y="4756320"/>
            <a:ext cx="1023840" cy="730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3"/>
          <p:cNvSpPr/>
          <p:nvPr/>
        </p:nvSpPr>
        <p:spPr>
          <a:xfrm>
            <a:off x="790560" y="1514520"/>
            <a:ext cx="742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我能写得既正确又漂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ì                    qìnɡ  shènɡ l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民都在欢 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忽然于连闻到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股火药味，发现一条点燃的导火线，他急中生智用尿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i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图片 1" descr=""/>
          <p:cNvPicPr/>
          <p:nvPr/>
        </p:nvPicPr>
        <p:blipFill>
          <a:blip r:embed="rId1"/>
          <a:stretch/>
        </p:blipFill>
        <p:spPr>
          <a:xfrm>
            <a:off x="4248000" y="2624040"/>
            <a:ext cx="1152720" cy="59868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2" descr=""/>
          <p:cNvPicPr/>
          <p:nvPr/>
        </p:nvPicPr>
        <p:blipFill>
          <a:blip r:embed="rId2"/>
          <a:stretch/>
        </p:blipFill>
        <p:spPr>
          <a:xfrm>
            <a:off x="1568520" y="2624040"/>
            <a:ext cx="601560" cy="59868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5" descr=""/>
          <p:cNvPicPr/>
          <p:nvPr/>
        </p:nvPicPr>
        <p:blipFill>
          <a:blip r:embed="rId3"/>
          <a:stretch/>
        </p:blipFill>
        <p:spPr>
          <a:xfrm>
            <a:off x="3540240" y="2624040"/>
            <a:ext cx="603000" cy="5986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7" descr=""/>
          <p:cNvPicPr/>
          <p:nvPr/>
        </p:nvPicPr>
        <p:blipFill>
          <a:blip r:embed="rId4"/>
          <a:stretch/>
        </p:blipFill>
        <p:spPr>
          <a:xfrm>
            <a:off x="868320" y="4322880"/>
            <a:ext cx="603360" cy="598320"/>
          </a:xfrm>
          <a:prstGeom prst="rect">
            <a:avLst/>
          </a:prstGeom>
          <a:ln w="0">
            <a:noFill/>
          </a:ln>
        </p:spPr>
      </p:pic>
      <p:sp>
        <p:nvSpPr>
          <p:cNvPr id="186" name="矩形 5"/>
          <p:cNvSpPr/>
          <p:nvPr/>
        </p:nvSpPr>
        <p:spPr>
          <a:xfrm>
            <a:off x="1687320" y="269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3659760" y="2689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4376880" y="26924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胜   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8"/>
          <p:cNvSpPr/>
          <p:nvPr/>
        </p:nvSpPr>
        <p:spPr>
          <a:xfrm>
            <a:off x="987120" y="439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1227240" y="2475000"/>
            <a:ext cx="768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有趣的加法。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组新字再组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＋生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广＋大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宀＋  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一＋火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9" descr="定"/>
          <p:cNvPicPr/>
          <p:nvPr/>
        </p:nvPicPr>
        <p:blipFill>
          <a:blip r:embed="rId1"/>
          <a:stretch/>
        </p:blipFill>
        <p:spPr>
          <a:xfrm>
            <a:off x="1863720" y="3780000"/>
            <a:ext cx="347760" cy="260280"/>
          </a:xfrm>
          <a:prstGeom prst="rect">
            <a:avLst/>
          </a:prstGeom>
          <a:ln w="0">
            <a:noFill/>
          </a:ln>
        </p:spPr>
      </p:pic>
      <p:sp>
        <p:nvSpPr>
          <p:cNvPr id="192" name="矩形 2"/>
          <p:cNvSpPr/>
          <p:nvPr/>
        </p:nvSpPr>
        <p:spPr>
          <a:xfrm>
            <a:off x="2576520" y="314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5"/>
          <p:cNvSpPr/>
          <p:nvPr/>
        </p:nvSpPr>
        <p:spPr>
          <a:xfrm>
            <a:off x="363204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胜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9"/>
          <p:cNvSpPr/>
          <p:nvPr/>
        </p:nvSpPr>
        <p:spPr>
          <a:xfrm>
            <a:off x="6404760" y="3129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23"/>
          <p:cNvSpPr/>
          <p:nvPr/>
        </p:nvSpPr>
        <p:spPr>
          <a:xfrm>
            <a:off x="7380000" y="3130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欢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35"/>
          <p:cNvSpPr/>
          <p:nvPr/>
        </p:nvSpPr>
        <p:spPr>
          <a:xfrm>
            <a:off x="2574000" y="3679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27"/>
          <p:cNvSpPr/>
          <p:nvPr/>
        </p:nvSpPr>
        <p:spPr>
          <a:xfrm>
            <a:off x="3662280" y="3668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一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28"/>
          <p:cNvSpPr/>
          <p:nvPr/>
        </p:nvSpPr>
        <p:spPr>
          <a:xfrm>
            <a:off x="6462720" y="3689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30"/>
          <p:cNvSpPr/>
          <p:nvPr/>
        </p:nvSpPr>
        <p:spPr>
          <a:xfrm>
            <a:off x="7380000" y="3689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灭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4" name="圆角矩形 4"/>
            <p:cNvSpPr/>
            <p:nvPr/>
          </p:nvSpPr>
          <p:spPr>
            <a:xfrm>
              <a:off x="600120" y="3876480"/>
              <a:ext cx="320760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读课文，说一说课文写了一件什么事。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圆角矩形 5"/>
            <p:cNvSpPr/>
            <p:nvPr/>
          </p:nvSpPr>
          <p:spPr>
            <a:xfrm>
              <a:off x="5224320" y="3889440"/>
              <a:ext cx="345600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于连为什么能发现导火线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6"/>
            <p:cNvSpPr/>
            <p:nvPr/>
          </p:nvSpPr>
          <p:spPr>
            <a:xfrm>
              <a:off x="5211720" y="5239080"/>
              <a:ext cx="3468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课文是按什么顺序来写的？这样写有什么好处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7"/>
            <p:cNvSpPr/>
            <p:nvPr/>
          </p:nvSpPr>
          <p:spPr>
            <a:xfrm>
              <a:off x="600120" y="5214240"/>
              <a:ext cx="3207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于连发现导火线后是怎么想的？又是怎么做的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79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矩形 1"/>
              <p:cNvSpPr/>
              <p:nvPr/>
            </p:nvSpPr>
            <p:spPr>
              <a:xfrm>
                <a:off x="2434320" y="1906920"/>
                <a:ext cx="4219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于连是一个怎样的孩子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矩形 2"/>
              <p:cNvSpPr/>
              <p:nvPr/>
            </p:nvSpPr>
            <p:spPr>
              <a:xfrm>
                <a:off x="4508640" y="12765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机智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295200" y="900000"/>
            <a:ext cx="852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当他经过一座院子时，忽然闻到一股火药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ào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味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èi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他发现院子里有火星在闪耀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ào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于连急忙跑过去，只见一条又长又粗的导火线，在干涸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é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深沟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gōu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里咝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ī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咝地燃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án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烧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云形 1"/>
          <p:cNvGrpSpPr/>
          <p:nvPr/>
        </p:nvGrpSpPr>
        <p:grpSpPr>
          <a:xfrm>
            <a:off x="4718160" y="2425680"/>
            <a:ext cx="3865320" cy="987480"/>
            <a:chOff x="4718160" y="2425680"/>
            <a:chExt cx="3865320" cy="987480"/>
          </a:xfrm>
        </p:grpSpPr>
        <p:pic>
          <p:nvPicPr>
            <p:cNvPr id="84" name="云形 1" descr=""/>
            <p:cNvPicPr/>
            <p:nvPr/>
          </p:nvPicPr>
          <p:blipFill>
            <a:blip r:embed="rId1"/>
            <a:stretch/>
          </p:blipFill>
          <p:spPr>
            <a:xfrm>
              <a:off x="4718160" y="2425680"/>
              <a:ext cx="38653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362640" y="26557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动作描写、烘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矩形 14"/>
          <p:cNvSpPr/>
          <p:nvPr/>
        </p:nvSpPr>
        <p:spPr>
          <a:xfrm>
            <a:off x="738360" y="4191120"/>
            <a:ext cx="76546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闻到”“发现”“跑过去”这一系列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动作描写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说明于连是一个细心、善于观察的孩子。同时这也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烘托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出当时情况的紧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11"/>
          <p:cNvGrpSpPr/>
          <p:nvPr/>
        </p:nvGrpSpPr>
        <p:grpSpPr>
          <a:xfrm>
            <a:off x="401760" y="3289320"/>
            <a:ext cx="7683480" cy="560520"/>
            <a:chOff x="401760" y="3289320"/>
            <a:chExt cx="7683480" cy="560520"/>
          </a:xfrm>
        </p:grpSpPr>
        <p:sp>
          <p:nvSpPr>
            <p:cNvPr id="88" name="直接连接符 12"/>
            <p:cNvSpPr/>
            <p:nvPr/>
          </p:nvSpPr>
          <p:spPr>
            <a:xfrm>
              <a:off x="401760" y="384984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任意多边形 13"/>
            <p:cNvSpPr/>
            <p:nvPr/>
          </p:nvSpPr>
          <p:spPr>
            <a:xfrm>
              <a:off x="401760" y="3289320"/>
              <a:ext cx="768348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从这两句话中可以知道于连是个怎样的孩子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" name="Picture 2" descr="C:\Users\Administrator\Desktop\可改图标 - 副本\品读释疑.png"/>
          <p:cNvPicPr/>
          <p:nvPr/>
        </p:nvPicPr>
        <p:blipFill>
          <a:blip r:embed="rId2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2"/>
          <p:cNvSpPr/>
          <p:nvPr/>
        </p:nvSpPr>
        <p:spPr>
          <a:xfrm>
            <a:off x="735120" y="15825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直到今天，人们仍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éng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然可以看到铜像上喷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ēn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出的那股清泉飘洒在美丽的布鲁塞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组合 3"/>
          <p:cNvGrpSpPr/>
          <p:nvPr/>
        </p:nvGrpSpPr>
        <p:grpSpPr>
          <a:xfrm>
            <a:off x="873000" y="2927520"/>
            <a:ext cx="7683480" cy="558720"/>
            <a:chOff x="873000" y="2927520"/>
            <a:chExt cx="7683480" cy="558720"/>
          </a:xfrm>
        </p:grpSpPr>
        <p:sp>
          <p:nvSpPr>
            <p:cNvPr id="93" name="直接连接符 4"/>
            <p:cNvSpPr/>
            <p:nvPr/>
          </p:nvSpPr>
          <p:spPr>
            <a:xfrm>
              <a:off x="873000" y="348624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任意多边形 5"/>
            <p:cNvSpPr/>
            <p:nvPr/>
          </p:nvSpPr>
          <p:spPr>
            <a:xfrm>
              <a:off x="873000" y="292752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从哪些词句可以看出人们对于连的怀念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矩形 1"/>
          <p:cNvSpPr/>
          <p:nvPr/>
        </p:nvSpPr>
        <p:spPr>
          <a:xfrm>
            <a:off x="885960" y="3691080"/>
            <a:ext cx="77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“直到今天”“仍然”“清泉飘洒”可以看出人们对于连的怀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977760" y="3718080"/>
            <a:ext cx="7425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于连是一个勇敢、机智、聪明的小男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961920" y="253044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于连是一个怎样的孩子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一说课文写了一件什么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1197000" y="320976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课文写了一件五百多年前，当人们在欢庆胜利时，一个不到十岁的小男孩发现了敌人点燃的导火线，他急中生智，用尿把导火线浇灭，保住了整座城市和全城的人的故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内容占位符 2"/>
          <p:cNvSpPr/>
          <p:nvPr/>
        </p:nvSpPr>
        <p:spPr>
          <a:xfrm>
            <a:off x="625320" y="194796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于连为什么能发现导火线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1039680" y="27939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是因为他正好路过那里；二是因为他闻到了火药味；三是因为他是一个细心的孩子，善于观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内容占位符 2"/>
          <p:cNvSpPr/>
          <p:nvPr/>
        </p:nvSpPr>
        <p:spPr>
          <a:xfrm>
            <a:off x="804960" y="191628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于连发现导火线后是怎么想的？又是怎么做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"/>
          <p:cNvSpPr/>
          <p:nvPr/>
        </p:nvSpPr>
        <p:spPr>
          <a:xfrm>
            <a:off x="1230480" y="2625840"/>
            <a:ext cx="70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7189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于连发现导火线后想：这一定是敌人想要炸毁这座城市，他要保护这座城市；他想了许多处理这件事的办法。最后他用自己的尿把导火线浇灭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2-09T14:11:06Z</dcterms:modified>
  <cp:revision>4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